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2759-5783-4EC3-AB12-5F419BA2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FFE5-30B0-4FD4-B08E-630777F9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5D7-D934-4384-8D1B-931EAB6E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DA7-6CFB-497B-A2A8-C426D0EC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913B2-BEC3-48F7-BD58-2ED2F9F1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B25CE-BBD0-4018-A174-9C088463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6B457-8FD9-4BC9-A8AC-A033F069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0FED2-971F-4213-9E93-9ACE2872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8FC4D-6387-4875-823D-FB0D63EF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540D9-6609-4A71-B4E6-C05CBD5A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7AF23-E792-440F-8217-63707C2F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4640-9CD8-44EF-AD83-2FD66D4E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5C6C2-9238-4C21-8578-F1C6B6F6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B5069-CAEC-458C-A5A1-F396CA42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127D8-7F4A-4733-8365-C727675D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A7056-C902-47FC-A5B0-5F1D4BD3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A7895-470A-45A7-951D-F7C3A9E2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B3DB-3352-410A-91F0-A74CB1F9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5A62-6048-4DEB-A811-8D15740F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9A4-474F-43D3-AD6F-0F6E8482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03E3-8745-46DF-AD11-F69BA12E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18E1-B020-43FA-8EB1-97C1C3A0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015-63DD-4A4F-8495-F7D2493A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20EF-ED1E-465B-941E-E4FD0B24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AE39-66E1-4733-B51E-21B83F687C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0320-7A99-42B3-8F65-9FB8A3C249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a cas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ameron Sher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pat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 patio es grande, impresionante, y moder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modern backyard retreat with fancy chairs a firepit and a lap pool"/>
          <p:cNvPicPr/>
          <p:nvPr/>
        </p:nvPicPr>
        <p:blipFill>
          <a:blip r:embed="rId2"/>
          <a:stretch/>
        </p:blipFill>
        <p:spPr>
          <a:xfrm>
            <a:off x="4495680" y="2209680"/>
            <a:ext cx="48006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moderno cas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 muy lujoso y modern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272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cuar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 cuarto es moderno, y grande.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38480" y="2057400"/>
            <a:ext cx="51055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sal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 sala es un moderon, lujoso, es grande.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5238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garaj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 garaje  es estupendo, moderno y gran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114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ban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 bano es modernoa, grande, y impresionant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0" y="186696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gdrdr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 jdrdrn es moderns, belloa, y gran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381492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cocin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 cocina es moderno, bonito, y lujoso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419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comed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 comedor es maderno, magnifico, y grand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0" y="2079720"/>
            <a:ext cx="438156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37:27Z</dcterms:created>
  <dc:creator>sherrcam</dc:creator>
  <dc:description/>
  <dc:language>en-US</dc:language>
  <cp:lastModifiedBy>sherrcam</cp:lastModifiedBy>
  <dcterms:modified xsi:type="dcterms:W3CDTF">2012-10-24T12:40:06Z</dcterms:modified>
  <cp:revision>8</cp:revision>
  <dc:subject/>
  <dc:title>La casa</dc:title>
</cp:coreProperties>
</file>